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AE6-8EBE-45FC-9DBC-8EA1DF92E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2BD-AAE4-4919-89A1-4F913BA9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E3D-1E5A-4C2A-84BD-0616F330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9F5-2555-41EC-81F8-6664683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2AE-F1A3-489F-9D05-645616B9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BC4-0094-4709-89DB-3F0AA057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446-B286-4A76-9CB7-9403778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52D-BD82-415E-B748-8B72FFF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60A-5FFD-465A-B421-1293565A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FAB-B8C4-4533-AB82-6BBE8A5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3B5-8F99-4C77-A71C-D46FD824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128-13A3-4966-831C-120F12C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D95-7BCA-40D6-84DE-F9AA47C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22E-6C36-4E55-86FF-F95E6FD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E5DE-5243-4C0C-B37E-DA9FA3FAC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qnyc.org/NYC040844/image/Chromosome.gif&amp;imgrefurl=http://www.tqnyc.org/NYC040844/Mitosis.htm&amp;h=480&amp;w=542&amp;sz=148&amp;tbnid=zjqy5FXJzo4J:&amp;tbnh=115&amp;tbnw=130&amp;hl=en&amp;start=4&amp;prev=/images%3Fq%3Dchromosome%26svnum%3D10%26hl%3Den%26lr%3D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1066680" y="228600"/>
          <a:ext cx="6886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688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DNA%20proton%20tunnelling2"/>
          <p:cNvPicPr/>
          <p:nvPr/>
        </p:nvPicPr>
        <p:blipFill>
          <a:blip r:embed="rId1"/>
          <a:stretch/>
        </p:blipFill>
        <p:spPr>
          <a:xfrm>
            <a:off x="457200" y="3808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na-base%20pairs"/>
          <p:cNvPicPr/>
          <p:nvPr/>
        </p:nvPicPr>
        <p:blipFill>
          <a:blip r:embed="rId2"/>
          <a:stretch/>
        </p:blipFill>
        <p:spPr>
          <a:xfrm>
            <a:off x="4114800" y="457200"/>
            <a:ext cx="4809960" cy="601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tomLabeledLarge"/>
          <p:cNvPicPr/>
          <p:nvPr/>
        </p:nvPicPr>
        <p:blipFill>
          <a:blip r:embed="rId3"/>
          <a:stretch/>
        </p:blipFill>
        <p:spPr>
          <a:xfrm>
            <a:off x="2819520" y="304920"/>
            <a:ext cx="1404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chromoso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09_a"/>
          <p:cNvPicPr/>
          <p:nvPr/>
        </p:nvPicPr>
        <p:blipFill>
          <a:blip r:embed="rId1"/>
          <a:stretch/>
        </p:blipFill>
        <p:spPr>
          <a:xfrm>
            <a:off x="558720" y="838080"/>
            <a:ext cx="7747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“resting”, you cannot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nw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chrom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dividing, you can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two sister chromatids connected by a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hromos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6320" y="5394240"/>
            <a:ext cx="1625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eukaryo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period of time from the beginning of one cell division to the beginning of the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oubles its contents so that it is ready to divide into two completely independen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s of 4 ph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st of the three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phase – mit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division of the ce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us and cytokin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stops growing in G1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conditions are right, cell will leave G1 and go through S phase, G2, and M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lls stop going through the cell cycle.  They are permanently in the G1 stage (normal cell function).   This stage is referred to as G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cells (m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 which the cell divides into two independent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ukaryote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990720" y="4648320"/>
          <a:ext cx="688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688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028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29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0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9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41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47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53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4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56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6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45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4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43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62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63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51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0560" y="78480"/>
            <a:ext cx="5105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031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74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76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78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84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86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87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88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89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90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93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94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14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132" name="Text Box 1095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96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06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135" name="Text Box 1107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08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09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10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11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12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13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four main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3200400" y="4648320"/>
          <a:ext cx="5591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48320"/>
                    <a:ext cx="5591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r the cell becom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emands the cell places on its 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trouble moving enough nutrients and wastes across the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of the four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sister chromat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hed at the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 undergoes sever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mbrane begins to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09_03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396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www.biologycorner.com/resources/mitosis/mitosis_prophase.gif"/>
          <p:cNvPicPr/>
          <p:nvPr/>
        </p:nvPicPr>
        <p:blipFill>
          <a:blip r:embed="rId2"/>
          <a:stretch/>
        </p:blipFill>
        <p:spPr>
          <a:xfrm>
            <a:off x="7315200" y="4648320"/>
            <a:ext cx="16257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egin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es of microtubules that spa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is to pull chromatids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attach to the spindle at the centrom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, spindle is created by the centr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, spindle is created between the cell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do not have centri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centriole"/>
          <p:cNvPicPr/>
          <p:nvPr/>
        </p:nvPicPr>
        <p:blipFill>
          <a:blip r:embed="rId1"/>
          <a:stretch/>
        </p:blipFill>
        <p:spPr>
          <a:xfrm>
            <a:off x="6172200" y="449568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st phase of mi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line up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990720" y="3733920"/>
          <a:ext cx="71913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191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7" name="Straight Arrow Connector 5"/>
          <p:cNvCxnSpPr/>
          <p:nvPr/>
        </p:nvCxnSpPr>
        <p:spPr>
          <a:xfrm flipH="1">
            <a:off x="4493520" y="3430080"/>
            <a:ext cx="39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r chromatids are pulled to the opposite ends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http://www.brhs.ab.ca/courses/biology30/bpages/unit2/quiz/anaphase_1.gif"/>
          <p:cNvPicPr/>
          <p:nvPr/>
        </p:nvPicPr>
        <p:blipFill>
          <a:blip r:embed="rId1"/>
          <a:stretch/>
        </p:blipFill>
        <p:spPr>
          <a:xfrm>
            <a:off x="5334120" y="3886200"/>
            <a:ext cx="2867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reak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embrane forms around the chromosome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unwind to chromatin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http://www.ivy-rose.co.uk/Topics/Cell_Structures/Telophase_cIvyRose.jpg"/>
          <p:cNvPicPr/>
          <p:nvPr/>
        </p:nvPicPr>
        <p:blipFill>
          <a:blip r:embed="rId1"/>
          <a:stretch/>
        </p:blipFill>
        <p:spPr>
          <a:xfrm>
            <a:off x="5334120" y="380880"/>
            <a:ext cx="343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094200" y="19828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 Cell M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71" name="Chapter 10A.mpg" descr=""/>
          <p:cNvPicPr/>
          <p:nvPr/>
        </p:nvPicPr>
        <p:blipFill>
          <a:blip r:embed="rId4"/>
          <a:stretch/>
        </p:blipFill>
        <p:spPr>
          <a:xfrm>
            <a:off x="704880" y="635040"/>
            <a:ext cx="7505640" cy="562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the cytoplasm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 pinches in at the middle to create two new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ell plate is created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09_06"/>
          <p:cNvPicPr/>
          <p:nvPr/>
        </p:nvPicPr>
        <p:blipFill>
          <a:blip r:embed="rId1"/>
          <a:stretch/>
        </p:blipFill>
        <p:spPr>
          <a:xfrm>
            <a:off x="584280" y="762120"/>
            <a:ext cx="81025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hanging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astes, nutrients, gases takes place depends on the surfac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# of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nutrients and gas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de or 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and wastes are made depends on volum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to Volume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increases much faster than surface area when a cell is gr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materials cannot keep up with the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cells have a larger surface area to volum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there is more surface area for materials to fit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to Volume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bio_ch10_6028"/>
          <p:cNvPicPr/>
          <p:nvPr/>
        </p:nvPicPr>
        <p:blipFill>
          <a:blip r:embed="rId1"/>
          <a:stretch/>
        </p:blipFill>
        <p:spPr>
          <a:xfrm>
            <a:off x="561960" y="1219320"/>
            <a:ext cx="8020080" cy="533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09480" y="449568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3520" y="52578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480" y="59436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 to Vol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hole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20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90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pter 10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stay the same size, cells must div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lit in 2: “daughter cell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EXACT copies of each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L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fore dividing, the cell must duplicate everything (DNA &amp; organelles) so that everything is the s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karyotes are simpler (no organel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DNA is copied, cell splits in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new cell contains a copy of the DNA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of asexual re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0085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Division in Eu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084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in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)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) Divis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) Divis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27" descr="bio_ch10_4504"/>
          <p:cNvPicPr/>
          <p:nvPr/>
        </p:nvPicPr>
        <p:blipFill>
          <a:blip r:embed="rId1"/>
          <a:stretch/>
        </p:blipFill>
        <p:spPr>
          <a:xfrm>
            <a:off x="3352680" y="838080"/>
            <a:ext cx="545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 that carry genetic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DNA and protein (hist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coils very tigh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 of coiling leads to whe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is visible or in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ukaryote has a character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hromosom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us of each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- 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g- 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fly-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 plant- 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- 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rgillus (fungus)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sophila (fly)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09_03"/>
          <p:cNvPicPr/>
          <p:nvPr/>
        </p:nvPicPr>
        <p:blipFill>
          <a:blip r:embed="rId1"/>
          <a:stretch/>
        </p:blipFill>
        <p:spPr>
          <a:xfrm>
            <a:off x="4724280" y="3048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37:34Z</dcterms:created>
  <dc:creator>Joanne Lilliendahl</dc:creator>
  <dc:description/>
  <dc:language>en-US</dc:language>
  <cp:lastModifiedBy>udsd</cp:lastModifiedBy>
  <dcterms:modified xsi:type="dcterms:W3CDTF">2011-03-18T12:14:10Z</dcterms:modified>
  <cp:revision>34</cp:revision>
  <dc:subject/>
  <dc:title>Slide 1</dc:title>
</cp:coreProperties>
</file>